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CAA6-8E1B-40DD-BB30-1B4914728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19D3-9C24-4778-912F-AF10F695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D9E8-64F9-4DB0-8947-16708ECA0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CF9C-8AAF-4780-92E3-FF94FBB11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040A-81C5-4540-BF2E-4809E6E9D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0BAC-4611-4FC8-9C01-6693FD55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A2ABC-ECFD-46FB-B92B-4E9D88D2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17632-C3E5-4B55-B8B2-1FF675E2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63498-8838-4B31-9E64-DE1AEF49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84A7-0649-448D-B4AB-157476FA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3DBC-BC16-41AF-B760-174C84E5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B0B3-F1A6-47E7-82FC-EE5AF0A7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E1649-70F1-4425-9DDC-F53B7892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0C98-653D-49F9-920C-61C7C276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DADE-4A1A-4AE1-9A18-6845C642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DF0E-4345-476C-99D8-FBED69D07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0317-F044-4F8D-B6E2-46311FB1D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4D38-B754-4F64-9464-DB7F5189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7D58-DF78-4A67-99AC-57DBCC44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35F5-2FEA-480F-B358-88C9DBB0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701B-D212-42C0-93C1-4EE36510D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740F-20C6-4557-A7B2-58C75F9A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95C1-EBB9-45C3-9395-C5B3005B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9EC4-ED19-4745-BA27-3C7638A5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09000" indent="-1998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09000" indent="-1998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09000" indent="-1998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0AED-60F0-4C9D-871E-7F0875E5580B}" type="slidenum"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239B-37CF-4581-B2DE-B9D574D54BA8}" type="slidenum"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20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400800" cy="1697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Reading Strategy </a:t>
            </a:r>
            <a:br>
              <a:rPr sz="4800"/>
            </a:br>
            <a:endParaRPr b="0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042920" y="4005000"/>
            <a:ext cx="70423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Understanding Text Organiz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5516640"/>
            <a:ext cx="1908000" cy="13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71280" y="404640"/>
            <a:ext cx="6870600" cy="9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pository Text Structures and their Associated Signal Wor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684360" y="1484280"/>
          <a:ext cx="7559640" cy="5219640"/>
        </p:xfrm>
        <a:graphic>
          <a:graphicData uri="http://schemas.openxmlformats.org/drawingml/2006/table">
            <a:tbl>
              <a:tblPr/>
              <a:tblGrid>
                <a:gridCol w="1906560"/>
                <a:gridCol w="3452760"/>
                <a:gridCol w="220032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Text Struc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ignal Wo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2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Two or mor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events, concepts, objects or places are compared, showing how they are </a:t>
                      </a: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alike and/or differ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b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howe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neverthe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similar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in contr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different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fr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he s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i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unli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5516640"/>
            <a:ext cx="1908000" cy="13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280" y="404640"/>
            <a:ext cx="6870600" cy="9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pository Text Structures and their Associated Signal Wor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4360" y="1484280"/>
          <a:ext cx="7414920" cy="4781520"/>
        </p:xfrm>
        <a:graphic>
          <a:graphicData uri="http://schemas.openxmlformats.org/drawingml/2006/table">
            <a:tbl>
              <a:tblPr/>
              <a:tblGrid>
                <a:gridCol w="1869840"/>
                <a:gridCol w="3386160"/>
                <a:gridCol w="215892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Text Struc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ignal Wo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4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topic is described by listing</a:t>
                      </a: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 characteristics, features, attributes, and exampl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for exam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for inst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such a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is li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in additio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l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includ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in partic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5516640"/>
            <a:ext cx="1908000" cy="13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280" y="404640"/>
            <a:ext cx="6870600" cy="9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pository Text Structures and their Associated Signal Wor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684360" y="1484280"/>
          <a:ext cx="7559640" cy="4929120"/>
        </p:xfrm>
        <a:graphic>
          <a:graphicData uri="http://schemas.openxmlformats.org/drawingml/2006/table">
            <a:tbl>
              <a:tblPr/>
              <a:tblGrid>
                <a:gridCol w="1906560"/>
                <a:gridCol w="3349440"/>
                <a:gridCol w="2303640"/>
              </a:tblGrid>
              <a:tr h="934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Text Struc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ignal Wo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4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ause and Ef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</a:t>
                      </a:r>
                      <a:r>
                        <a:rPr b="0" lang="zh-TW" sz="24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causes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of an event and its </a:t>
                      </a:r>
                      <a:r>
                        <a:rPr b="0" lang="zh-TW" sz="24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resulting effect(s)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are present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if/th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s a resu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heref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nsequent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si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beca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h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h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his led 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71280" y="404640"/>
            <a:ext cx="6870600" cy="9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pository Text Structures and their Associated Signal Wor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84360" y="1557360"/>
          <a:ext cx="7414920" cy="3467160"/>
        </p:xfrm>
        <a:graphic>
          <a:graphicData uri="http://schemas.openxmlformats.org/drawingml/2006/table">
            <a:tbl>
              <a:tblPr/>
              <a:tblGrid>
                <a:gridCol w="1869840"/>
                <a:gridCol w="3386160"/>
                <a:gridCol w="215892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Text Struc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ignal Wo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Problem and Solu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</a:t>
                      </a: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problem and one or more solution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to the problem are present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problem 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solution 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if/th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o solve th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problem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0" y="5516640"/>
            <a:ext cx="1908000" cy="13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50920" y="1341360"/>
            <a:ext cx="8137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 Model ways students can use clues to identify text structures and share an example.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Especially when  signal words cannot be found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 Introduce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graphic organizer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for the patterns and help students make order out of the tex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. Make use of the overhead projector or the computer to involve the class in completing a graphic organizer illustrating the text structure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">
            <a:hlinkClick r:id="rId2" action="ppaction://hlinksldjump"/>
          </p:cNvPr>
          <p:cNvSpPr/>
          <p:nvPr/>
        </p:nvSpPr>
        <p:spPr>
          <a:xfrm>
            <a:off x="7667640" y="58770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42920" y="115920"/>
            <a:ext cx="6265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Inside the classroom 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- Teaching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5516640"/>
            <a:ext cx="1908000" cy="13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8623440" cy="55659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15640" y="33336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aris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1547640" y="2060640"/>
            <a:ext cx="194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Differe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80000" y="1916280"/>
            <a:ext cx="194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Dif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492360" y="2421000"/>
            <a:ext cx="1584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Simila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679840" y="1866960"/>
            <a:ext cx="124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508720" y="2492280"/>
            <a:ext cx="18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0"/>
            <a:ext cx="2171880" cy="34308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ppendix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escrip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5516640"/>
            <a:ext cx="1908000" cy="13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39640" y="1239840"/>
            <a:ext cx="7704360" cy="50198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0" y="0"/>
            <a:ext cx="2171880" cy="34308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ppendix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5516640"/>
            <a:ext cx="1908000" cy="13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50920" y="1967040"/>
            <a:ext cx="8130960" cy="35733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755640" y="2492280"/>
            <a:ext cx="1728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n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92360" y="2565360"/>
            <a:ext cx="1729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n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12000" y="2565360"/>
            <a:ext cx="1728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nt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95640" y="4437000"/>
            <a:ext cx="1728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nt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716360" y="4437000"/>
            <a:ext cx="1728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nt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0"/>
            <a:ext cx="2171880" cy="34308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ppendix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 and S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5516640"/>
            <a:ext cx="1908000" cy="13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85800" y="1836720"/>
            <a:ext cx="7696080" cy="36417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0" y="0"/>
            <a:ext cx="2171880" cy="34308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ppendix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and Effe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5516640"/>
            <a:ext cx="1908000" cy="13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5311800" cy="46022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0" y="0"/>
            <a:ext cx="2171880" cy="34308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ppendix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>
            <a:hlinkClick r:id="rId2" action="ppaction://hlinksldjump"/>
          </p:cNvPr>
          <p:cNvSpPr/>
          <p:nvPr/>
        </p:nvSpPr>
        <p:spPr>
          <a:xfrm>
            <a:off x="7740720" y="6021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39280" y="1052640"/>
            <a:ext cx="77756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ny teachers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ssu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at a student who can read narrative texts well will be able to read expository texts wel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ny students have problems comprehending expository text becaus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hey can’t see the basic structure of text.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Dymock,2005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0"/>
            <a:ext cx="1439640" cy="1413000"/>
          </a:xfrm>
          <a:prstGeom prst="irregularSeal1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476360" y="260280"/>
            <a:ext cx="6912000" cy="7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o we teach text organizatio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6870600" cy="2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urther Practi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9280" y="692280"/>
            <a:ext cx="7696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rovide opportunities for students to have </a:t>
            </a:r>
            <a:r>
              <a:rPr b="0" lang="en-US" sz="2600" spc="-1" strike="noStrike">
                <a:solidFill>
                  <a:srgbClr val="3333ff"/>
                </a:solidFill>
                <a:latin typeface="Comic Sans MS"/>
              </a:rPr>
              <a:t>guided and independent practic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tudents can work </a:t>
            </a:r>
            <a:r>
              <a:rPr b="0" lang="en-US" sz="2600" spc="-1" strike="noStrike">
                <a:solidFill>
                  <a:srgbClr val="3333ff"/>
                </a:solidFill>
                <a:latin typeface="Comic Sans MS"/>
              </a:rPr>
              <a:t>in pairs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US" sz="2600" spc="-1" strike="noStrike">
                <a:solidFill>
                  <a:srgbClr val="3333ff"/>
                </a:solidFill>
                <a:latin typeface="Comic Sans MS"/>
              </a:rPr>
              <a:t>individuall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to identify examples of the structure in other texts.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65000"/>
              </a:lnSpc>
              <a:spcBef>
                <a:spcPts val="3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et more able students </a:t>
            </a:r>
            <a:r>
              <a:rPr b="0" lang="en-US" sz="2600" spc="-1" strike="noStrike">
                <a:solidFill>
                  <a:srgbClr val="3333ff"/>
                </a:solidFill>
                <a:latin typeface="Comic Sans MS"/>
              </a:rPr>
              <a:t>model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the writing of a paragraph that follows a specific text structure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6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is will reinforce students’ understanding of the text structure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65000"/>
              </a:lnSpc>
              <a:spcBef>
                <a:spcPts val="3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each for transfer – e.g. Integrated Scienc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5229360"/>
            <a:ext cx="197964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6513480" cy="21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iscussion (5 minutes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3640" y="836640"/>
            <a:ext cx="813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Please refer to the given text </a:t>
            </a:r>
            <a:r>
              <a:rPr b="0" lang="zh-TW" sz="2400" spc="-1" strike="noStrike">
                <a:solidFill>
                  <a:srgbClr val="0000ff"/>
                </a:solidFill>
                <a:latin typeface="Comic Sans MS"/>
              </a:rPr>
              <a:t>(Passage 1, 2, 3 or 4)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  in your group selected from a textbook. </a:t>
            </a:r>
            <a:r>
              <a:rPr b="0" lang="zh-TW" sz="2800" spc="-1" strike="noStrike">
                <a:solidFill>
                  <a:srgbClr val="ff0000"/>
                </a:solidFill>
                <a:latin typeface="Comic Sans MS"/>
              </a:rPr>
              <a:t>Skim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 the parts that are framed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1. What kind of </a:t>
            </a:r>
            <a:r>
              <a:rPr b="0" lang="zh-TW" sz="2800" spc="-1" strike="noStrike">
                <a:solidFill>
                  <a:srgbClr val="ff0000"/>
                </a:solidFill>
                <a:latin typeface="Comic Sans MS"/>
              </a:rPr>
              <a:t>text structure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 can we locate in the tex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2. What </a:t>
            </a:r>
            <a:r>
              <a:rPr b="0" lang="zh-TW" sz="2800" spc="-1" strike="noStrike">
                <a:solidFill>
                  <a:srgbClr val="ff0000"/>
                </a:solidFill>
                <a:latin typeface="Comic Sans MS"/>
              </a:rPr>
              <a:t>signal words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 can we ask students to identif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3. Which </a:t>
            </a:r>
            <a:r>
              <a:rPr b="0" lang="zh-TW" sz="2800" spc="-1" strike="noStrike">
                <a:solidFill>
                  <a:srgbClr val="ff0000"/>
                </a:solidFill>
                <a:latin typeface="Comic Sans MS"/>
              </a:rPr>
              <a:t>graphic organizer(s) </a:t>
            </a:r>
            <a:r>
              <a:rPr b="0" lang="zh-TW" sz="2400" spc="-1" strike="noStrike">
                <a:solidFill>
                  <a:srgbClr val="3333ff"/>
                </a:solidFill>
                <a:latin typeface="Comic Sans MS"/>
              </a:rPr>
              <a:t>(Appendix 1-5)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 can we introduce to student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4. What </a:t>
            </a:r>
            <a:r>
              <a:rPr b="0" lang="zh-TW" sz="2800" spc="-1" strike="noStrike">
                <a:solidFill>
                  <a:srgbClr val="ff0000"/>
                </a:solidFill>
                <a:latin typeface="Comic Sans MS"/>
              </a:rPr>
              <a:t>information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 can we ask students to put in the organizer(s) based on the tex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5516640"/>
            <a:ext cx="1908000" cy="13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08000" y="620640"/>
            <a:ext cx="8623080" cy="5565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aris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1619280" y="1989000"/>
            <a:ext cx="194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Differe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292720" y="1916280"/>
            <a:ext cx="194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Dif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2421000"/>
            <a:ext cx="1584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Simila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679840" y="1866960"/>
            <a:ext cx="124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16440" y="1557360"/>
            <a:ext cx="794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580000" y="1484280"/>
            <a:ext cx="1292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492360" y="2781360"/>
            <a:ext cx="17272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66760" indent="-266760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ve in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26920" y="2637000"/>
            <a:ext cx="2521080" cy="22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77840" indent="-177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sh can flo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sh have skeletons made of hard b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08720" y="2492280"/>
            <a:ext cx="18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508720" y="2637000"/>
            <a:ext cx="259236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77840" indent="-177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rk can’t flo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rks have skeletons made of hard cartil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rk have several rows of tee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me sharks attack hu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0"/>
            <a:ext cx="2171880" cy="34308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assag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63640" y="6165720"/>
            <a:ext cx="55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Signal words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erent from, 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5516640"/>
            <a:ext cx="1908000" cy="13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236000" y="0"/>
            <a:ext cx="190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8785440" cy="45356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0" y="0"/>
            <a:ext cx="2171880" cy="34308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assag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19280" y="580536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Signal word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or example, also, such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5516640"/>
            <a:ext cx="1908000" cy="13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8623440" cy="55656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6870960" cy="43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mparis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"/>
          <p:cNvSpPr/>
          <p:nvPr/>
        </p:nvSpPr>
        <p:spPr>
          <a:xfrm>
            <a:off x="3492360" y="2421000"/>
            <a:ext cx="1584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Simila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679840" y="1866960"/>
            <a:ext cx="124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658160" y="1557360"/>
            <a:ext cx="18752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allow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932360" y="1484280"/>
            <a:ext cx="21607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alloween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492360" y="2781360"/>
            <a:ext cx="1727280" cy="29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66760" indent="-26676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laying “apple bobb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ressing up in scary costu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00000" y="2349360"/>
            <a:ext cx="2521080" cy="35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77840" indent="-177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ople made lanterns out of turn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ople put out food for gh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ople walked around the streets nosi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ople played tricked on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508720" y="2492280"/>
            <a:ext cx="18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08720" y="2637000"/>
            <a:ext cx="2592360" cy="26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77840" indent="-177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ople make lanterns out of pumpkins and sometimes watermel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ople give sweets to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ople play “Trick or Treating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835280" y="6021360"/>
            <a:ext cx="59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Signal word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e same as, still, 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0"/>
            <a:ext cx="2171880" cy="34308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assag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7236000" y="0"/>
            <a:ext cx="190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5516640"/>
            <a:ext cx="1908000" cy="13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8893080" cy="58770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179280" y="1413000"/>
            <a:ext cx="23050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1886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ca-Cola wa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vented by Dr. John Pember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2000" y="1413000"/>
            <a:ext cx="22320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ff"/>
                </a:solidFill>
                <a:latin typeface="Comic Sans MS"/>
              </a:rPr>
              <a:t>1888: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Comic Sans MS"/>
              </a:rPr>
              <a:t>Dr. John Pemberton told the business to Asa Griggs Cand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763640" y="4581360"/>
            <a:ext cx="223200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ff"/>
                </a:solidFill>
                <a:latin typeface="Comic Sans MS"/>
              </a:rPr>
              <a:t>1903: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Comic Sans MS"/>
              </a:rPr>
              <a:t>Asa Candler took out the cocaine from the drink as it was a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940360" y="1413000"/>
            <a:ext cx="22320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ff"/>
                </a:solidFill>
                <a:latin typeface="Comic Sans MS"/>
              </a:rPr>
              <a:t>1898: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Comic Sans MS"/>
              </a:rPr>
              <a:t>Asa Griggs Candler licensed the bottling of Coca-Co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643280" y="4581360"/>
            <a:ext cx="22323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1965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a-Cola was first made in Hong K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2171880" cy="34308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assage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123640" y="0"/>
            <a:ext cx="687060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and Effe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5516640"/>
            <a:ext cx="1908000" cy="13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684360" y="1000080"/>
            <a:ext cx="7127640" cy="57769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0" y="0"/>
            <a:ext cx="2171880" cy="34308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assage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333360"/>
            <a:ext cx="4032360" cy="3841920"/>
          </a:xfrm>
          <a:prstGeom prst="rightArrow">
            <a:avLst>
              <a:gd name="adj1" fmla="val 50000"/>
              <a:gd name="adj2" fmla="val 26239"/>
            </a:avLst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o obvious signal word! But the question gives the hint that the resulting effects of the problem will be followed by the ques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08000" y="0"/>
            <a:ext cx="687096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 and Solu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5516640"/>
            <a:ext cx="1908000" cy="13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1366920" y="1052640"/>
            <a:ext cx="7777080" cy="53910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0" y="0"/>
            <a:ext cx="2171880" cy="34308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assag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08000" y="0"/>
            <a:ext cx="2876400" cy="4023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No obvious signal word! But the question gives the hint that solutions to the problem will be followed by the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76327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s it worth spending time doing this?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69608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udents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l be </a:t>
            </a: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more familiar wit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ifferent text structur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l gain a better understanding of </a:t>
            </a: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how ideas are organiz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different text structure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l be able to </a:t>
            </a: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apply their knowledg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predict what they may read in the tex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l become more </a:t>
            </a: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independent reade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5229360"/>
            <a:ext cx="197964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00000" y="5445000"/>
            <a:ext cx="799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mic Sans MS"/>
              </a:rPr>
              <a:t>Resources consulte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mic Sans MS"/>
              </a:rPr>
              <a:t>http://www.educationoasis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mic Sans MS"/>
              </a:rPr>
              <a:t>http://www.itrc.ucf.edu/forpd/abou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 important point to no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73422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ext connections should lead to text comprehens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ntervention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needed to prevent students from being distracted from the tex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5300640"/>
            <a:ext cx="219564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55640" y="5445000"/>
            <a:ext cx="799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mic Sans MS"/>
              </a:rPr>
              <a:t>Resources consulte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mic Sans MS"/>
              </a:rPr>
              <a:t>http://www.educationoasis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mic Sans MS"/>
              </a:rPr>
              <a:t>http://www.itrc.ucf.edu/forpd/abou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47640" y="259920"/>
            <a:ext cx="687096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o we teach text organizatio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7696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100" spc="-1" strike="noStrike">
                <a:solidFill>
                  <a:srgbClr val="ff0000"/>
                </a:solidFill>
                <a:latin typeface="Comic Sans MS"/>
              </a:rPr>
              <a:t>Text comprehension is improved</a:t>
            </a:r>
            <a:r>
              <a:rPr b="0" lang="zh-TW" sz="3100" spc="-1" strike="noStrike">
                <a:solidFill>
                  <a:srgbClr val="000000"/>
                </a:solidFill>
                <a:latin typeface="Comic Sans MS"/>
              </a:rPr>
              <a:t> when students can </a:t>
            </a:r>
            <a:r>
              <a:rPr b="0" lang="zh-TW" sz="3100" spc="-1" strike="noStrike">
                <a:solidFill>
                  <a:srgbClr val="ff0000"/>
                </a:solidFill>
                <a:latin typeface="Comic Sans MS"/>
              </a:rPr>
              <a:t>recognize the underlying structure of text</a:t>
            </a:r>
            <a:r>
              <a:rPr b="0" lang="zh-TW" sz="3100" spc="-1" strike="noStrike">
                <a:solidFill>
                  <a:srgbClr val="000000"/>
                </a:solidFill>
                <a:latin typeface="Comic Sans MS"/>
              </a:rPr>
              <a:t> (Williams, 2005). 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1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zh-TW" sz="3100" spc="-1" strike="noStrike">
                <a:solidFill>
                  <a:srgbClr val="000000"/>
                </a:solidFill>
                <a:latin typeface="Comic Sans MS"/>
              </a:rPr>
              <a:t>Awareness" of text structure helps students understand </a:t>
            </a:r>
            <a:r>
              <a:rPr b="0" lang="zh-TW" sz="3100" spc="-1" strike="noStrike">
                <a:solidFill>
                  <a:srgbClr val="ff0000"/>
                </a:solidFill>
                <a:latin typeface="Comic Sans MS"/>
              </a:rPr>
              <a:t>global ideas, or main theses </a:t>
            </a:r>
            <a:r>
              <a:rPr b="0" lang="zh-TW" sz="3100" spc="-1" strike="noStrike">
                <a:solidFill>
                  <a:srgbClr val="000000"/>
                </a:solidFill>
                <a:latin typeface="Comic Sans MS"/>
              </a:rPr>
              <a:t>(Seidenberg, 1989;Weaver &amp; Kintsch, 1991)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100" spc="-1" strike="noStrike">
                <a:solidFill>
                  <a:srgbClr val="000000"/>
                </a:solidFill>
                <a:latin typeface="Comic Sans MS"/>
              </a:rPr>
              <a:t>Students are more likely to </a:t>
            </a:r>
            <a:r>
              <a:rPr b="0" lang="zh-TW" sz="3100" spc="-1" strike="noStrike">
                <a:solidFill>
                  <a:srgbClr val="ff0000"/>
                </a:solidFill>
                <a:latin typeface="Comic Sans MS"/>
              </a:rPr>
              <a:t>remember and interpret</a:t>
            </a:r>
            <a:r>
              <a:rPr b="0" lang="zh-TW" sz="3100" spc="-1" strike="noStrike">
                <a:solidFill>
                  <a:srgbClr val="000000"/>
                </a:solidFill>
                <a:latin typeface="Comic Sans MS"/>
              </a:rPr>
              <a:t> the ideas they encounter when they read.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189000"/>
            <a:ext cx="1439640" cy="1152360"/>
          </a:xfrm>
          <a:prstGeom prst="irregularSeal1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5516640"/>
            <a:ext cx="1908000" cy="13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9640" y="189000"/>
            <a:ext cx="53276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king Connections Cue 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078520" y="3564000"/>
            <a:ext cx="3806640" cy="3834720"/>
          </a:xfrm>
          <a:prstGeom prst="irregularSeal1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tter understand and digest what they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219640" y="549360"/>
            <a:ext cx="3235320" cy="4717800"/>
          </a:xfrm>
          <a:prstGeom prst="irregularSeal1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ke sense of the text by using their prior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971640" y="907920"/>
            <a:ext cx="345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440" y="135000"/>
            <a:ext cx="6870600" cy="70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"/>
          <p:cNvSpPr/>
          <p:nvPr/>
        </p:nvSpPr>
        <p:spPr>
          <a:xfrm>
            <a:off x="971640" y="2421000"/>
            <a:ext cx="172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0" t="0" r="82" b="32"/>
          <a:stretch/>
        </p:blipFill>
        <p:spPr>
          <a:xfrm>
            <a:off x="900000" y="907920"/>
            <a:ext cx="3167280" cy="54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843280" y="765000"/>
            <a:ext cx="5432400" cy="5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o teach 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79200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to identify the important structural elements of different types of expository text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hysical presentatio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ext Struct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1403280" y="260280"/>
            <a:ext cx="1440000" cy="1511280"/>
          </a:xfrm>
          <a:prstGeom prst="irregularSeal1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08000" y="549360"/>
            <a:ext cx="4856400" cy="35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o teach 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0"/>
            <a:ext cx="1440000" cy="1197000"/>
          </a:xfrm>
          <a:prstGeom prst="irregularSeal1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1484280"/>
            <a:ext cx="2089440" cy="1297080"/>
          </a:xfrm>
          <a:prstGeom prst="ellipse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4000" y="4869000"/>
            <a:ext cx="2089080" cy="1224000"/>
          </a:xfrm>
          <a:prstGeom prst="ellipse">
            <a:avLst/>
          </a:prstGeom>
          <a:noFill/>
          <a:ln w="5724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88000" y="981000"/>
            <a:ext cx="1728720" cy="1079640"/>
          </a:xfrm>
          <a:prstGeom prst="ellipse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59280" y="4221000"/>
            <a:ext cx="1622520" cy="1224000"/>
          </a:xfrm>
          <a:prstGeom prst="ellipse">
            <a:avLst/>
          </a:prstGeom>
          <a:noFill/>
          <a:ln w="5724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093080" y="333360"/>
            <a:ext cx="1871640" cy="647640"/>
          </a:xfrm>
          <a:prstGeom prst="ellipse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164360" y="1197000"/>
            <a:ext cx="1871640" cy="647640"/>
          </a:xfrm>
          <a:prstGeom prst="ellipse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164360" y="2060640"/>
            <a:ext cx="1800360" cy="576360"/>
          </a:xfrm>
          <a:prstGeom prst="ellipse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236000" y="3284640"/>
            <a:ext cx="1726920" cy="504720"/>
          </a:xfrm>
          <a:prstGeom prst="ellipse">
            <a:avLst/>
          </a:prstGeom>
          <a:noFill/>
          <a:ln w="5724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36000" y="3933720"/>
            <a:ext cx="1800000" cy="432000"/>
          </a:xfrm>
          <a:prstGeom prst="ellipse">
            <a:avLst/>
          </a:prstGeom>
          <a:noFill/>
          <a:ln w="5724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308720" y="4508640"/>
            <a:ext cx="1727280" cy="649080"/>
          </a:xfrm>
          <a:prstGeom prst="ellipse">
            <a:avLst/>
          </a:prstGeom>
          <a:noFill/>
          <a:ln w="5724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308720" y="5300640"/>
            <a:ext cx="1835280" cy="649440"/>
          </a:xfrm>
          <a:prstGeom prst="ellipse">
            <a:avLst/>
          </a:prstGeom>
          <a:noFill/>
          <a:ln w="5724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80360" y="6165720"/>
            <a:ext cx="1763640" cy="692280"/>
          </a:xfrm>
          <a:prstGeom prst="ellipse">
            <a:avLst/>
          </a:prstGeom>
          <a:noFill/>
          <a:ln w="5724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068640"/>
            <a:ext cx="1908000" cy="129708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7236000" y="0"/>
            <a:ext cx="190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5516640"/>
            <a:ext cx="1908000" cy="13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79280" y="260280"/>
            <a:ext cx="687060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o teach this strateg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/>
          <p:nvPr/>
        </p:nvSpPr>
        <p:spPr>
          <a:xfrm>
            <a:off x="900000" y="0"/>
            <a:ext cx="1150920" cy="836640"/>
          </a:xfrm>
          <a:prstGeom prst="irregularSeal1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5280" y="765000"/>
            <a:ext cx="8209080" cy="457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Teaching Demonstration –  Comparison text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79280" y="1341360"/>
          <a:ext cx="8785440" cy="5256360"/>
        </p:xfrm>
        <a:graphic>
          <a:graphicData uri="http://schemas.openxmlformats.org/drawingml/2006/table">
            <a:tbl>
              <a:tblPr/>
              <a:tblGrid>
                <a:gridCol w="2081160"/>
                <a:gridCol w="4096080"/>
                <a:gridCol w="260820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Text Struc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ignal Wo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6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Two or mor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events, concepts, objects or places are compared, showing how they are </a:t>
                      </a: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alike and/or differ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99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b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99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howe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99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neverthe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99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in contr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99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different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fr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99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unli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66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6600"/>
                          </a:solidFill>
                          <a:latin typeface="Comic Sans MS"/>
                        </a:rPr>
                        <a:t>similar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66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6600"/>
                          </a:solidFill>
                          <a:latin typeface="Comic Sans MS"/>
                        </a:rPr>
                        <a:t>the s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66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6600"/>
                          </a:solidFill>
                          <a:latin typeface="Comic Sans MS"/>
                        </a:rPr>
                        <a:t>li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5516640"/>
            <a:ext cx="1908000" cy="13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8623440" cy="556596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5640" y="33336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arison – Cold &amp; Flu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1547640" y="2060640"/>
            <a:ext cx="194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Differe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580000" y="1916280"/>
            <a:ext cx="194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Dif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2421000"/>
            <a:ext cx="1584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Simila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79840" y="1866960"/>
            <a:ext cx="124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96280" y="1557360"/>
            <a:ext cx="85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84720" y="1484280"/>
            <a:ext cx="6429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6920" y="3284640"/>
            <a:ext cx="1727280" cy="23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66760" indent="-26676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unny nose  &amp; sneez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ead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ore thro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 c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ching         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26920" y="2637000"/>
            <a:ext cx="252108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ually last about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a 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08720" y="2492280"/>
            <a:ext cx="18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19640" y="2781360"/>
            <a:ext cx="259236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77840" indent="-177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high f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dry c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uch worse   a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st for longer – at least two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be a deadly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19640" y="2781360"/>
            <a:ext cx="201600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used by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vir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148360" y="2349360"/>
            <a:ext cx="2952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more serious ill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8351 0.02086 E">
                                      <p:cBhvr>
                                        <p:cTn id="160" dur="5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Inside the classroom 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- Teaching procedu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696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Introduce the idea that expository texts have </a:t>
            </a: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different organizational patterns.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2. Tell students it is </a:t>
            </a: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powerful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to understand how writers organize their ideas by applying their knowledge in text organization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3. Introduce text patterns and explain that text structure can sometimes be identified by </a:t>
            </a: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certain signal words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5516640"/>
            <a:ext cx="1908000" cy="13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71280" y="404640"/>
            <a:ext cx="6870600" cy="9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pository Text Structures and their Associated Signal Wor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684360" y="1484280"/>
          <a:ext cx="7559640" cy="4781520"/>
        </p:xfrm>
        <a:graphic>
          <a:graphicData uri="http://schemas.openxmlformats.org/drawingml/2006/table">
            <a:tbl>
              <a:tblPr/>
              <a:tblGrid>
                <a:gridCol w="1631880"/>
                <a:gridCol w="4416480"/>
                <a:gridCol w="151128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Text Struc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ignal Wo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4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Sequ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tems or events are listed in</a:t>
                      </a: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 numerical or chronological orde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firs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seco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a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nex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h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final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da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f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wh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1T03:03:40Z</dcterms:created>
  <dc:creator>pollse9</dc:creator>
  <dc:description/>
  <dc:language>en-US</dc:language>
  <cp:lastModifiedBy>cffteacher</cp:lastModifiedBy>
  <dcterms:modified xsi:type="dcterms:W3CDTF">2010-01-06T13:37:25Z</dcterms:modified>
  <cp:revision>70</cp:revision>
  <dc:subject/>
  <dc:title>Reading Strategy  Making Connections</dc:title>
</cp:coreProperties>
</file>